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A8D8-C463-4366-9C2D-24DE6E06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3B51-7588-48BB-97CC-4453AC00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E9FF-827D-4D12-914C-FA95BFDF2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DEF5-4FA2-4359-A0B8-ACEE9D094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9485-C80E-4A9E-9123-60276223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1C13-FF5A-4A90-89FD-8421F5E2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3888-7C8A-4F56-BA42-E38B9E46D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77CC-F28B-4C8F-B5EF-3485463C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8778-1678-49ED-8AE3-FD82C5CF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A02C-F26B-43B9-9A90-496AF3E9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30A6-4B22-41B9-AA74-5BABB551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07E8-5F8A-4CF9-BBA0-082C5C5C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49325-B195-438C-8A94-7658E882A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gonometry Quiz 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Special Ang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 angle is given in radians, tell what the degree equivalen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n angle is given in degrees, tell what the radian equivalen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2209680" y="1219320"/>
          <a:ext cx="2316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219320"/>
                    <a:ext cx="2316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908000" y="2075040"/>
          <a:ext cx="292104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075040"/>
                    <a:ext cx="292104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209680" y="1219320"/>
          <a:ext cx="2316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219320"/>
                    <a:ext cx="2316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857240" y="2075040"/>
          <a:ext cx="302256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2075040"/>
                    <a:ext cx="302256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2209680" y="1219320"/>
          <a:ext cx="2316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219320"/>
                    <a:ext cx="2316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857240" y="2075040"/>
          <a:ext cx="302256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2075040"/>
                    <a:ext cx="302256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2209680" y="1219320"/>
          <a:ext cx="2316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219320"/>
                    <a:ext cx="2316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908000" y="1219320"/>
          <a:ext cx="29210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219320"/>
                    <a:ext cx="29210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606680" y="2075040"/>
          <a:ext cx="352584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6680" y="2075040"/>
                    <a:ext cx="352584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959120" y="1219320"/>
          <a:ext cx="281916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9120" y="1219320"/>
                    <a:ext cx="281916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2209680" y="1219320"/>
          <a:ext cx="2316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219320"/>
                    <a:ext cx="2316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1550880" y="2057400"/>
          <a:ext cx="362592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0880" y="2057400"/>
                    <a:ext cx="362592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959120" y="1219320"/>
          <a:ext cx="281916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9120" y="1219320"/>
                    <a:ext cx="281916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606680" y="2075040"/>
          <a:ext cx="352584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6680" y="2075040"/>
                    <a:ext cx="352584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959120" y="1219320"/>
          <a:ext cx="281916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9120" y="1219320"/>
                    <a:ext cx="281916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655640" y="2075040"/>
          <a:ext cx="342612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5640" y="2075040"/>
                    <a:ext cx="342612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908000" y="1219320"/>
          <a:ext cx="29210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219320"/>
                    <a:ext cx="29210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655640" y="2075040"/>
          <a:ext cx="342612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5640" y="2075040"/>
                    <a:ext cx="342612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706400" y="1219320"/>
          <a:ext cx="3324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6400" y="1219320"/>
                    <a:ext cx="3324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655640" y="2075040"/>
          <a:ext cx="342612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5640" y="2075040"/>
                    <a:ext cx="342612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908000" y="1219320"/>
          <a:ext cx="29210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219320"/>
                    <a:ext cx="29210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908000" y="2075040"/>
          <a:ext cx="292104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075040"/>
                    <a:ext cx="292104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555920" y="2075040"/>
          <a:ext cx="362736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5920" y="2075040"/>
                    <a:ext cx="362736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2008080" y="2075040"/>
          <a:ext cx="271944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8080" y="2075040"/>
                    <a:ext cx="271944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606680" y="2075040"/>
          <a:ext cx="352584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6680" y="2075040"/>
                    <a:ext cx="352584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908000" y="1219320"/>
          <a:ext cx="29210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219320"/>
                    <a:ext cx="29210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606680" y="2075040"/>
          <a:ext cx="352584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6680" y="2075040"/>
                    <a:ext cx="352584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1959120" y="1219320"/>
          <a:ext cx="281916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9120" y="1219320"/>
                    <a:ext cx="281916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655640" y="2075040"/>
          <a:ext cx="342612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5640" y="2075040"/>
                    <a:ext cx="342612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1959120" y="1219320"/>
          <a:ext cx="281916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59120" y="1219320"/>
                    <a:ext cx="281916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555920" y="2075040"/>
          <a:ext cx="362736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5920" y="2075040"/>
                    <a:ext cx="362736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309760" y="2225520"/>
          <a:ext cx="2114640" cy="110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9760" y="2225520"/>
                    <a:ext cx="211464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209680" y="1219320"/>
          <a:ext cx="2316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219320"/>
                    <a:ext cx="2316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555920" y="2075040"/>
          <a:ext cx="362736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5920" y="2075040"/>
                    <a:ext cx="362736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2409840" y="2075040"/>
          <a:ext cx="191448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9840" y="2075040"/>
                    <a:ext cx="191448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157480" y="2075040"/>
          <a:ext cx="241920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7480" y="2075040"/>
                    <a:ext cx="241920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857240" y="2075040"/>
          <a:ext cx="302256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2075040"/>
                    <a:ext cx="302256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209680" y="1219320"/>
          <a:ext cx="2316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219320"/>
                    <a:ext cx="2316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857240" y="2075040"/>
          <a:ext cx="302256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2075040"/>
                    <a:ext cx="302256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209680" y="1219320"/>
          <a:ext cx="2316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219320"/>
                    <a:ext cx="2316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906560" y="2075040"/>
          <a:ext cx="292248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6560" y="2075040"/>
                    <a:ext cx="292248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9:23:02Z</dcterms:created>
  <dc:creator> John</dc:creator>
  <dc:description/>
  <dc:language>en-US</dc:language>
  <cp:lastModifiedBy> John</cp:lastModifiedBy>
  <dcterms:modified xsi:type="dcterms:W3CDTF">2009-02-04T21:06:33Z</dcterms:modified>
  <cp:revision>5</cp:revision>
  <dc:subject/>
  <dc:title>Slide 1</dc:title>
</cp:coreProperties>
</file>